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7.gif" ContentType="image/gif"/>
  <Override PartName="/ppt/media/image3.gif" ContentType="image/gif"/>
  <Override PartName="/ppt/media/image26.gif" ContentType="image/gif"/>
  <Override PartName="/ppt/media/image25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304-F9E9-4BB4-9814-556157AF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F2C-F93E-4BE9-83D8-6CACD1F8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83F-0FDD-456A-B511-F3CC86B7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422-D4B7-4371-B105-FCEE734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4081-59EB-4FC7-9094-737CC6A1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98A-8909-4ED4-A334-B7B1598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38B-AA03-4D2D-BB31-674B94D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E98-2E7F-4886-B659-B5C943A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F39-26A9-4AD0-B508-0EAE5135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E7E-1AE0-424D-9280-A9B4248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8558-2C1B-4B52-9727-AB0BDCB8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A38-3307-4716-8E04-F863BA6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B961-26EC-4DCB-8735-9CB912E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011-C66A-4B68-934A-E47AADC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672-7381-429B-83D6-2DE97FF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F84C-ABD4-42D3-84CD-349AB294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5A0-96A3-412D-81A2-4B4BA0BB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6B7-DD9C-43A3-84A9-E8287E3D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01F-FA32-4A97-9FD4-61A6CF8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BB4-7527-4E9F-A8D2-770981B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E57-D16B-46D6-A1C9-02572B7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C1C-2DF0-4936-BFC9-BE34EE6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785-E855-4EE3-86B9-AA03F90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C12-E97B-427F-8B58-23D2704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42A-2D4C-4D08-AB81-69BFA132C0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5B69-1067-4714-A006-5636AF765A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560" y="277920"/>
            <a:ext cx="8543880" cy="20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  <a:ea typeface="Tahoma"/>
              </a:rPr>
              <a:t>«Акмеологический подход в образовании»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87280" y="3573000"/>
            <a:ext cx="55450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езентация подготов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        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учителем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М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К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У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«Ушакинская 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Ш №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1»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Тосненского района 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Нагурной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Елено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ahoma"/>
              </a:rPr>
              <a:t>Михайловно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4" descr="i1183rp"/>
          <p:cNvPicPr/>
          <p:nvPr/>
        </p:nvPicPr>
        <p:blipFill>
          <a:blip r:embed="rId2"/>
          <a:stretch/>
        </p:blipFill>
        <p:spPr>
          <a:xfrm>
            <a:off x="4000680" y="2357280"/>
            <a:ext cx="1323720" cy="10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560" y="285840"/>
            <a:ext cx="854388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я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формирует новый интегративный способ мышления педагога, который помогает создать индивидуальные программы человека и сформировать модели самореализации и адаптации в современном мире, опираясь на потребность человек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аморазвитии на осно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нравственных мотивов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2920" y="428400"/>
            <a:ext cx="885816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Школьная 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зуч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ершины развития субъектов педагогического процесса  в школе, объективные и субъективные факторы достижения профессио-нализма учителя, достижения вершин в учении и развитии учащихся и в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деятельности педагогическог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коллектива как коллектив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убъекта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" descr="i1188rp"/>
          <p:cNvPicPr/>
          <p:nvPr/>
        </p:nvPicPr>
        <p:blipFill>
          <a:blip r:embed="rId2"/>
          <a:stretch/>
        </p:blipFill>
        <p:spPr>
          <a:xfrm>
            <a:off x="285840" y="5500800"/>
            <a:ext cx="1224000" cy="101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71320" y="285840"/>
            <a:ext cx="835812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Для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школьной акмеологии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едущими факторами являются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зрелость (школьная, социальная, профессиональная, личностная, возрастная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офессионализм, успех, достиж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ысокая мотивация достиж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одуктивность (результативность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 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D:\My documents\Geografinia\ШКОЛЬНЫЕ ПРЕДМЕТЫ\информатика\aHIMA\63[1].gif"/>
          <p:cNvPicPr/>
          <p:nvPr/>
        </p:nvPicPr>
        <p:blipFill>
          <a:blip r:embed="rId2"/>
          <a:stretch/>
        </p:blipFill>
        <p:spPr>
          <a:xfrm>
            <a:off x="7358040" y="592920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Школьная 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как наука развивается в трех основных направления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методология и теор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актическая акмеология (развитие образовательных систем и человека в их условиях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мет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(измерение качества развит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D:\My documents\Geografinia\ШКОЛЬНЫЕ ПРЕДМЕТЫ\информатика\aHIMA\mp69[1].gif"/>
          <p:cNvPicPr/>
          <p:nvPr/>
        </p:nvPicPr>
        <p:blipFill>
          <a:blip r:embed="rId2"/>
          <a:stretch/>
        </p:blipFill>
        <p:spPr>
          <a:xfrm>
            <a:off x="7429680" y="5357880"/>
            <a:ext cx="95220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зучение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и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школьного образования обеспечивает успешное формирование психолого-педагогической и валиологической грамотности учит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Эти виды профессиональной грамотности соврем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едагога необходимо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рассматривать как ведущ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критерии оценки его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уровня квалиф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3" descr="i1182rp"/>
          <p:cNvPicPr/>
          <p:nvPr/>
        </p:nvPicPr>
        <p:blipFill>
          <a:blip r:embed="rId2"/>
          <a:stretch/>
        </p:blipFill>
        <p:spPr>
          <a:xfrm>
            <a:off x="285840" y="54291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Школьная акмеолог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4200" y="1142640"/>
            <a:ext cx="87868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озникла  не случайно, её появление трактуется рядом причи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1. возникновение школы нового типа, ориентированной на достижение каждым ребенком вершин своего индивидуального развития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3" descr="i182rp"/>
          <p:cNvPicPr/>
          <p:nvPr/>
        </p:nvPicPr>
        <p:blipFill>
          <a:blip r:embed="rId2"/>
          <a:stretch/>
        </p:blipFill>
        <p:spPr>
          <a:xfrm>
            <a:off x="6929280" y="5357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2.появление школ с повышенным уровнем образования (гимназии, лицеи), специализированные школы для одаренных детей, которые создают базу для изучения вершин развития школьников, характера этих вершин, их качественных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количественных проявл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D:\My documents\Geografinia\ШКОЛЬНЫЕ ПРЕДМЕТЫ\информатика\aHIMA\AG00037_[1].gif"/>
          <p:cNvPicPr/>
          <p:nvPr/>
        </p:nvPicPr>
        <p:blipFill>
          <a:blip r:embed="rId2"/>
          <a:stretch/>
        </p:blipFill>
        <p:spPr>
          <a:xfrm>
            <a:off x="7072200" y="5000760"/>
            <a:ext cx="1086120" cy="142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480" y="285840"/>
            <a:ext cx="86439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3.необходимостью анализа предпосылок будущего профессио-нализма выпускников школы, мотивации выбора профессии, содержания допрофессиональной подготовки учащихся профильных старших классов, преемственности с ВУЗ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" descr="i1185rp"/>
          <p:cNvPicPr/>
          <p:nvPr/>
        </p:nvPicPr>
        <p:blipFill>
          <a:blip r:embed="rId2"/>
          <a:stretch/>
        </p:blipFill>
        <p:spPr>
          <a:xfrm>
            <a:off x="357120" y="6000840"/>
            <a:ext cx="990720" cy="415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428400"/>
            <a:ext cx="840096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4. необходимостью интеграции знаний по педагогике, психологии,  валиологии, физиологии, генетики человека и философии образования при конструировании и функцио-нировании современных педагогических сист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D:\My documents\Geografinia\ШКОЛЬНЫЕ ПРЕДМЕТЫ\информатика\aHIMA\97[1].gif"/>
          <p:cNvPicPr/>
          <p:nvPr/>
        </p:nvPicPr>
        <p:blipFill>
          <a:blip r:embed="rId2"/>
          <a:stretch/>
        </p:blipFill>
        <p:spPr>
          <a:xfrm>
            <a:off x="7000920" y="528624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5.важностью для полноценного развития растущего человека и его социализации в современных условиях общества, обеспечении его успеха, веры в себя, мотивации достижения успеха, а не избегании неудач, мотивации активной жизнедеятельности, саморазвит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уже в школьные 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D:\My documents\Geografinia\ШКОЛЬНЫЕ ПРЕДМЕТЫ\информатика\aHIMA\gallery_2_392_39234[1].gif"/>
          <p:cNvPicPr/>
          <p:nvPr/>
        </p:nvPicPr>
        <p:blipFill>
          <a:blip r:embed="rId2"/>
          <a:stretch/>
        </p:blipFill>
        <p:spPr>
          <a:xfrm>
            <a:off x="7000920" y="5214960"/>
            <a:ext cx="1000080" cy="111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пл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логия-интегративная на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Особенности школьной акме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Три направления школьной  акме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ичины возникновения школьной  акме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ланируемые результат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логического подход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42920" y="142560"/>
            <a:ext cx="885816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Школьная 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извана решать следующие 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зучение вариативных акмеформ в целостном и устойчивом развитии растущего человека в образовательной среде (зрелость, здоровье, творчество, духовность, индивидуальность и др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D:\My documents\Geografinia\ШКОЛЬНЫЕ ПРЕДМЕТЫ\информатика\aHIMA\69[1].gif"/>
          <p:cNvPicPr/>
          <p:nvPr/>
        </p:nvPicPr>
        <p:blipFill>
          <a:blip r:embed="rId2"/>
          <a:stretch/>
        </p:blipFill>
        <p:spPr>
          <a:xfrm>
            <a:off x="6858000" y="4714920"/>
            <a:ext cx="95256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сследование зависимости между уровнем достигнутых результатов деятельности и способами решения, выявления факторов (субъективных, объективных и субъективно-объективных), обеспечивающих тот или иной результат индивидуальног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развития учителя и уче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моделирование педагогических систем и стратегии достижения вершин индивидуальной, групповой и коллективной учебно-познавательной деятельности учащегося и профессиональной деятельности учителей, их творч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2" descr="7e76b"/>
          <p:cNvPicPr/>
          <p:nvPr/>
        </p:nvPicPr>
        <p:blipFill>
          <a:blip r:embed="rId2"/>
          <a:stretch/>
        </p:blipFill>
        <p:spPr>
          <a:xfrm>
            <a:off x="7000920" y="5143680"/>
            <a:ext cx="1295280" cy="1079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сследование развития растущего человека на ступенях, предшествующих достижению высокого профессионал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D:\My documents\Geografinia\ШКОЛЬНЫЕ ПРЕДМЕТЫ\информатика\aHIMA\8587686c340ede07f0ca0974fce69553.gif"/>
          <p:cNvPicPr/>
          <p:nvPr/>
        </p:nvPicPr>
        <p:blipFill>
          <a:blip r:embed="rId2"/>
          <a:stretch/>
        </p:blipFill>
        <p:spPr>
          <a:xfrm>
            <a:off x="6715080" y="5072040"/>
            <a:ext cx="1324080" cy="1000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овместно с педагогикой должна решить очень непростую задачу: выяснить, какими особенностями должны обладать, если можно так выразиться, микроакме человека на каждой из фаз его жизненного пути, которое он должен достичь, что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остоялось его большое ак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D:\My documents\Geografinia\ШКОЛЬНЫЕ ПРЕДМЕТЫ\информатика\aHIMA\17cf4c75a7617f6dc9951553ed8d0d2a.gif"/>
          <p:cNvPicPr/>
          <p:nvPr/>
        </p:nvPicPr>
        <p:blipFill>
          <a:blip r:embed="rId2"/>
          <a:stretch/>
        </p:blipFill>
        <p:spPr>
          <a:xfrm>
            <a:off x="7286760" y="5500800"/>
            <a:ext cx="733320" cy="866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логический подход в настоящее время является одним из прогрессивных и перспективных для современной школы. Применяя его к содержанию образования, технологиям обучения , можно перевести школу из режима функционирования к развитию, при этом значительно повыша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 качество образова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D:\My documents\Geografinia\ШКОЛЬНЫЕ ПРЕДМЕТЫ\информатика\анима\6[1].gif"/>
          <p:cNvPicPr/>
          <p:nvPr/>
        </p:nvPicPr>
        <p:blipFill>
          <a:blip r:embed="rId2"/>
          <a:stretch/>
        </p:blipFill>
        <p:spPr>
          <a:xfrm>
            <a:off x="7072200" y="5643720"/>
            <a:ext cx="1352520" cy="91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14200" y="428400"/>
            <a:ext cx="87868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Необходимость акмеологического подхода в учебно-воспитательном и управленческом процессе общеобразовательной школы очевидна, поскольку общество ожидает от школы, что её выпускники будут коммуника-бельными, креативными,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о мыслящи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личност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D:\My documents\Geografinia\ШКОЛЬНЫЕ ПРЕДМЕТЫ\информатика\анима\1244564717_schkoljnaja[1].jpg"/>
          <p:cNvPicPr/>
          <p:nvPr/>
        </p:nvPicPr>
        <p:blipFill>
          <a:blip r:embed="rId2"/>
          <a:stretch/>
        </p:blipFill>
        <p:spPr>
          <a:xfrm>
            <a:off x="214200" y="5572080"/>
            <a:ext cx="1571760" cy="103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42840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логические приёмы, акметехнологии, предлагают практическое решение вопроса личностного и профессионального успе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D:\My documents\Geografinia\ШКОЛЬНЫЕ ПРЕДМЕТЫ\информатика\aHIMA\28[1].gif"/>
          <p:cNvPicPr/>
          <p:nvPr/>
        </p:nvPicPr>
        <p:blipFill>
          <a:blip r:embed="rId2"/>
          <a:stretch/>
        </p:blipFill>
        <p:spPr>
          <a:xfrm>
            <a:off x="7286760" y="542916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Акмеологический подход к образованию становится особенно актуальным в связи с обострением проблемы качества современной школ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D:\My documents\Geografinia\ШКОЛЬНЫЕ ПРЕДМЕТЫ\информатика\aHIMA\19pe[1].gif"/>
          <p:cNvPicPr/>
          <p:nvPr/>
        </p:nvPicPr>
        <p:blipFill>
          <a:blip r:embed="rId2"/>
          <a:stretch/>
        </p:blipFill>
        <p:spPr>
          <a:xfrm>
            <a:off x="7500960" y="5143680"/>
            <a:ext cx="590400" cy="1056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2840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у качества образования, ставшей столь популярной в течение последних нескольких лет, можно решить с использованием акметехнологий, с изучением теории и апробацией акмеологических принци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D:\My documents\Geografinia\ШКОЛЬНЫЕ ПРЕДМЕТЫ\информатика\анима\4rW8oUuE46[1].gif"/>
          <p:cNvPicPr/>
          <p:nvPr/>
        </p:nvPicPr>
        <p:blipFill>
          <a:blip r:embed="rId2"/>
          <a:stretch/>
        </p:blipFill>
        <p:spPr>
          <a:xfrm>
            <a:off x="6286680" y="4786200"/>
            <a:ext cx="130464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920" y="357120"/>
            <a:ext cx="885816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я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– это интегративная наука, изучающая психологическую и профессиональную зрелость личности,наука о закономерности достижения вершин развития человека на каждом возрастном этапе его жизни. Эта наука, выдвинутая Н.А. Рыбниковым и Б.Г. Ананьевым в системе человекознания, получила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широкое развитие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овременных исследова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D:\My documents\Geografinia\ШКОЛЬНЫЕ ПРЕДМЕТЫ\информатика\анима\102[1].gif"/>
          <p:cNvPicPr/>
          <p:nvPr/>
        </p:nvPicPr>
        <p:blipFill>
          <a:blip r:embed="rId2"/>
          <a:stretch/>
        </p:blipFill>
        <p:spPr>
          <a:xfrm>
            <a:off x="285840" y="5715000"/>
            <a:ext cx="1000080" cy="92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42560"/>
            <a:ext cx="8929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1.Акмеология:учебник/Под ред. А.А.Дергача. М.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Издательство РАГС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2.Андриенко Е.В.Социальная психология/Под ред. В.А.Сластенина.М.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3.      Антропова Л.В. Акме-технологии в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офессиональной подготовк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учителя адаптивной школы/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Школьные технологии. 2003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                                   №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2920" y="500040"/>
            <a:ext cx="8858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исследует закономерности психического развития личности в период его акме (акме греч.вершина), т.е. вершины физической, интеллектуальной и нравственной зрел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D:\My documents\Geografinia\ШКОЛЬНЫЕ ПРЕДМЕТЫ\информатика\aHIMA\0_a55_ec241af6_XL[1].gif"/>
          <p:cNvPicPr/>
          <p:nvPr/>
        </p:nvPicPr>
        <p:blipFill>
          <a:blip r:embed="rId2"/>
          <a:stretch/>
        </p:blipFill>
        <p:spPr>
          <a:xfrm>
            <a:off x="7143840" y="4714920"/>
            <a:ext cx="1095120" cy="150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142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Это наука, которая изучает развитие человека на ступени взрослости и достижении им вершины в этом развитии как природного существа (индивида), как личности и как субъект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D:\My documents\Geografinia\ШКОЛЬНЫЕ ПРЕДМЕТЫ\информатика\aHIMA\j0095699[1].gif"/>
          <p:cNvPicPr/>
          <p:nvPr/>
        </p:nvPicPr>
        <p:blipFill>
          <a:blip r:embed="rId2"/>
          <a:stretch/>
        </p:blipFill>
        <p:spPr>
          <a:xfrm>
            <a:off x="6215040" y="4714920"/>
            <a:ext cx="2324160" cy="1838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00040" y="285480"/>
            <a:ext cx="82152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 общем и целом понятие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«акмеология»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- это возможность высших достижений человека в разных пространствах его жизнедеятельности и в разных формах их осущест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2" descr="22_2"/>
          <p:cNvPicPr/>
          <p:nvPr/>
        </p:nvPicPr>
        <p:blipFill>
          <a:blip r:embed="rId2"/>
          <a:stretch/>
        </p:blipFill>
        <p:spPr>
          <a:xfrm>
            <a:off x="6500880" y="4643280"/>
            <a:ext cx="1457280" cy="1590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 этих позиций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я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выступает как фундаментальная наука, как теория общих закономерностей достижения вершин в человеческой жизнедеятельности и интегрирует знания из многих наук о человеке (культурология, психология,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едагогика, философия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истемология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71424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К настоящему времени помимо общей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и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оформились такие ветви акмеологии, как управленческая, военная, спортивная, педагогическая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D:\My documents\Geografinia\ШКОЛЬНЫЕ ПРЕДМЕТЫ\информатика\анима\book[1].gif"/>
          <p:cNvPicPr/>
          <p:nvPr/>
        </p:nvPicPr>
        <p:blipFill>
          <a:blip r:embed="rId2"/>
          <a:stretch/>
        </p:blipFill>
        <p:spPr>
          <a:xfrm>
            <a:off x="785880" y="5786280"/>
            <a:ext cx="504720" cy="4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2560" y="428400"/>
            <a:ext cx="85438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редметом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кмеологии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школьного образования является целостное и устойчивое развитие растущего человека – ученика и взрослого человека – учителя в продуктивных социально-педагогических системах школь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D:\My documents\Geografinia\ШКОЛЬНЫЕ ПРЕДМЕТЫ\информатика\aHIMA\school[1].gif"/>
          <p:cNvPicPr/>
          <p:nvPr/>
        </p:nvPicPr>
        <p:blipFill>
          <a:blip r:embed="rId2"/>
          <a:stretch/>
        </p:blipFill>
        <p:spPr>
          <a:xfrm>
            <a:off x="7286760" y="4643280"/>
            <a:ext cx="952200" cy="1667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02</cp:lastModifiedBy>
  <dcterms:modified xsi:type="dcterms:W3CDTF">2016-04-20T09:37:32Z</dcterms:modified>
  <cp:revision>42</cp:revision>
  <dc:subject/>
  <dc:title>PowerPoint Presentation</dc:title>
</cp:coreProperties>
</file>